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3008345"/>
        <c:axId val="69150306"/>
      </c:barChart>
      <c:catAx>
        <c:axId val="5300834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150306"/>
        <c:crosses val="autoZero"/>
        <c:auto val="1"/>
        <c:lblAlgn val="ctr"/>
        <c:lblOffset val="100"/>
        <c:noMultiLvlLbl val="0"/>
      </c:catAx>
      <c:valAx>
        <c:axId val="6915030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00834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47BF5-E562-4029-910B-9497B652A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22252-8692-4E0C-B61F-782C56919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BA636-0859-4E69-B2BC-37BA7D459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91507-3385-442B-A3F9-A8CE20225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B38B5-2BE3-4526-8951-14C73102A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08023-FD42-4E86-847C-FFEE0918C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51437-4314-4DBD-B46D-849FBFD48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2EF33-F9FF-42A8-BBB1-D915E5A2F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A5B96-0D45-47F7-9E5B-34F8C8539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F8502-A4C5-4218-B351-422B743AE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B2EC8-FB22-4622-955E-4231C82AC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33022-8BF0-402E-BD2F-4BC492E56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9E773D-CC44-463A-835E-CF250554B7B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