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739989"/>
        <c:axId val="73635003"/>
      </c:barChart>
      <c:catAx>
        <c:axId val="873998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635003"/>
        <c:crosses val="autoZero"/>
        <c:auto val="1"/>
        <c:lblAlgn val="ctr"/>
        <c:lblOffset val="100"/>
        <c:noMultiLvlLbl val="0"/>
      </c:catAx>
      <c:valAx>
        <c:axId val="7363500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3998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90B3-2A51-4AF6-879E-FDEC8A8BA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63F5-DB8A-425E-A5EB-0F10317BC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934F-17FB-4D6A-9A63-1591B1C98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3608-F23F-482F-B78B-45E9B1B8E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F850-E46B-4D9D-8A2E-90D8262B0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D153-8DB2-41AE-B8E8-82876F3A1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CEDC-8544-4CED-8660-C90AAB194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0FC8-0A6B-4229-8265-802F6EF42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7DD4-5D9C-48B7-A098-84D58E66E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8535-2CDB-46BC-B578-197FE9D56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25D7-9D70-427A-8675-78B328DE6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3C32-23B0-4F03-9906-BE04AFA0E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A7A2F1-75E5-4DA6-AC7A-C27A4766936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