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07859"/>
        <c:axId val="90866832"/>
      </c:barChart>
      <c:catAx>
        <c:axId val="49207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66832"/>
        <c:crosses val="autoZero"/>
        <c:auto val="1"/>
        <c:lblAlgn val="ctr"/>
        <c:lblOffset val="100"/>
        <c:noMultiLvlLbl val="0"/>
      </c:catAx>
      <c:valAx>
        <c:axId val="9086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07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41D-E555-401E-8320-5C70695C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F92-2791-4BF2-B5FC-A2908D8D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8AC-20D2-4A11-970E-59D0BE15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056-9BD9-4CB2-93EC-86A48DBB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047-F88D-4FA3-B5A0-895F72A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FC3-077A-4CE0-9F5C-C7F3859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930-8019-4340-AA80-1C40B865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436-23E7-496F-9FE3-5E12AC2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DD1-A2AA-4EC2-A418-295E943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C4B-D652-4DD3-A30A-97AA0E8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32B-7836-4F88-841D-6497E66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F5B-54BF-4CB7-8B9A-3DC6483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DF0BF-DC25-405B-AE43-12A97D8D5D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