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86193"/>
        <c:axId val="2852047"/>
      </c:barChart>
      <c:catAx>
        <c:axId val="64986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2047"/>
        <c:crosses val="autoZero"/>
        <c:auto val="1"/>
        <c:lblAlgn val="ctr"/>
        <c:lblOffset val="100"/>
        <c:noMultiLvlLbl val="0"/>
      </c:catAx>
      <c:valAx>
        <c:axId val="2852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86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326-35C3-4FC7-A4F4-104EEAFB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601-02B8-4FB9-82F0-0EE37946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7B4-0856-41AA-AC25-E62F6884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F11-E27F-4E79-B9B2-8AC612BD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D66-F4F0-42A1-AAD3-9AA3A789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806-20B6-4FDA-AA7A-3280696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5F5-9C35-4A82-B8EB-EC57FD63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014-05D0-42AA-BC94-C9CF3306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209-85D3-42F0-9FE2-CA9A038A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964-E9EA-4BA0-B753-F27C141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327-E00E-46D3-9663-F4ECD660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FE3-B15B-4309-AE54-82C36BE2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D9A4C-3940-458C-83EA-AB6ACF7D7F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