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735973"/>
        <c:axId val="62760627"/>
      </c:barChart>
      <c:catAx>
        <c:axId val="967359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760627"/>
        <c:crosses val="autoZero"/>
        <c:auto val="1"/>
        <c:lblAlgn val="ctr"/>
        <c:lblOffset val="100"/>
        <c:noMultiLvlLbl val="0"/>
      </c:catAx>
      <c:valAx>
        <c:axId val="627606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7359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81F6-A200-481B-9711-CBFD62449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EF42-473D-4A7C-85BE-CEEF1C07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9DD6-E8EB-4768-A5FD-58F4E35E7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2246-7680-4B08-82A8-413A4638A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79B9-7288-4286-84E0-637A118B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5227-979A-407C-BF3B-6247CEEF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DA3C-A953-4FB3-BD69-CA6B6ADA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21C8-E21A-4280-9A00-095F82A6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19D7-56D5-43D6-9CBF-4A5D430A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8EAD-2A9F-4D30-8197-1A2EE151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3D29-2EA6-4C81-8C6E-AA848362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5E35-B28D-4EB7-A7C1-C3B75BA3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E89C4-DE8E-426F-9662-A7D0F9BDDB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