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58078"/>
        <c:axId val="38778345"/>
      </c:barChart>
      <c:catAx>
        <c:axId val="27058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8345"/>
        <c:crosses val="autoZero"/>
        <c:auto val="1"/>
        <c:lblAlgn val="ctr"/>
        <c:lblOffset val="100"/>
        <c:noMultiLvlLbl val="0"/>
      </c:catAx>
      <c:valAx>
        <c:axId val="387783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58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91E-8C20-4241-BF3C-9AFE893B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B48-DE59-4F3B-AFB4-D6FA1626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285-7D01-44A8-ACD7-FE2EBA23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E3F-9547-413C-A73F-61EB6E36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2C44-1CBB-4A59-87EF-C7107C93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0A9-819A-4C99-83BE-6E55A48C4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6C8D-6537-4524-A6DA-A1A3749C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770-8362-48BD-8BBC-39D9CDB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5B1A-0B4A-4F0F-AEFC-8396168C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A6B-5086-45B8-B566-1ECF0B6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01B-C781-4C1B-A0E3-E4061D0E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AE3-0735-463A-9200-A3A8BFC6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FEF0BC-D0FC-4897-AED9-ADA958844D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