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081328"/>
        <c:axId val="3115417"/>
      </c:barChart>
      <c:catAx>
        <c:axId val="920813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5417"/>
        <c:crosses val="autoZero"/>
        <c:auto val="1"/>
        <c:lblAlgn val="ctr"/>
        <c:lblOffset val="100"/>
        <c:noMultiLvlLbl val="0"/>
      </c:catAx>
      <c:valAx>
        <c:axId val="31154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813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A5B7-22A2-47C4-B322-6B79D9CF3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EE26-CA88-43E7-96FB-B82F0614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D99A-FC1F-4941-A3B6-C664D4FD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F4F0-7A2E-405A-AF3C-F347C2CB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40B4-01D1-4197-9AE1-CBF24B6D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041-5356-4397-9061-EE256522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679E-5637-4BA1-9B97-DF7A89B2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4370-D88D-4057-8BA0-B8EAA7D2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632B-E633-4A4E-8491-8A550A82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3B52-8CF2-45D3-8CB4-E3F79476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7D8A-B190-435B-8D2F-7EACFC7E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F926-1A37-44EA-9DED-0CAA0F61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D4D1F-7C8B-45B9-A677-41B8E93966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