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86783"/>
        <c:axId val="35907415"/>
      </c:barChart>
      <c:catAx>
        <c:axId val="28386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07415"/>
        <c:crosses val="autoZero"/>
        <c:auto val="1"/>
        <c:lblAlgn val="ctr"/>
        <c:lblOffset val="100"/>
        <c:noMultiLvlLbl val="0"/>
      </c:catAx>
      <c:valAx>
        <c:axId val="35907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86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3CB-BD5D-44E6-8DD3-4D7CCB6C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685-8314-4119-AE4F-57130189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C75-FC7D-4068-AAF1-B6F2E70D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DBB-1423-4D19-8CF5-BCA58A5A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4BA-DB3E-495A-9A23-988CDC9E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9D67-0A81-4D2F-96B3-21B4DBF4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646-FDCF-4E81-BE29-AC963795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3C5-3542-4053-A757-53CE412F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AC5-0EB5-4FBD-B3B8-FDF4D5B3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4CD-7906-4354-A845-E8F1AE13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5B3-327D-4264-9BDD-96D43FBB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CC6-48B6-4F8C-8B1F-3BA0E1D9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B59D1-180D-4004-9816-AFE8E24F0B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