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66219"/>
        <c:axId val="22610076"/>
      </c:barChart>
      <c:catAx>
        <c:axId val="48966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10076"/>
        <c:crosses val="autoZero"/>
        <c:auto val="1"/>
        <c:lblAlgn val="ctr"/>
        <c:lblOffset val="100"/>
        <c:noMultiLvlLbl val="0"/>
      </c:catAx>
      <c:valAx>
        <c:axId val="22610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6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976-CC7D-46D2-A25D-101F05F8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220-6310-4C5D-B620-72D6ED6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DA0-B765-4769-B063-55D0A536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CB9-8333-484C-9C7B-2FC39E9B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EFF-02C8-427C-A59A-266354F6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981-F782-4BB2-81BF-B13CA42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2E7-696C-4FEA-83B2-469BA714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069-EA4E-4364-8A2A-8D53B49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465-5E12-4F0D-8663-6F5BAEE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2E5-E496-4B16-A0DF-6CAB2FDB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BB3-123C-4B9C-954F-79F292FC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DED-01F2-46F3-959D-E37E0ED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23125-5847-4EF4-97C6-B3A8A16728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