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27955"/>
        <c:axId val="94533840"/>
      </c:barChart>
      <c:catAx>
        <c:axId val="31327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33840"/>
        <c:crosses val="autoZero"/>
        <c:auto val="1"/>
        <c:lblAlgn val="ctr"/>
        <c:lblOffset val="100"/>
        <c:noMultiLvlLbl val="0"/>
      </c:catAx>
      <c:valAx>
        <c:axId val="94533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27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7DE-162C-4F63-A417-C04E656E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8FC-3A6B-411C-8E51-CDF2706B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81C-AA21-4024-AEB6-13B2942C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49A-4894-48B8-AF48-3E505C4F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81A-A89E-49FF-B6CF-A940848A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602-6360-462C-AE9F-0AF4B918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DAB-AB63-436A-AD35-7FA5B50C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342-1272-484C-A16B-A862470F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4D7-460F-4B89-8CB5-6B46C949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33F-3DA0-4FDE-8E82-8AC35B32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2FE-80CA-442C-ADAC-A6A7C3E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B1F-0AF6-4306-90E5-5E6328E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71841-EE73-4A0A-BBCF-746065AB57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