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13059"/>
        <c:axId val="53131682"/>
      </c:barChart>
      <c:catAx>
        <c:axId val="24413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1682"/>
        <c:crosses val="autoZero"/>
        <c:auto val="1"/>
        <c:lblAlgn val="ctr"/>
        <c:lblOffset val="100"/>
        <c:noMultiLvlLbl val="0"/>
      </c:catAx>
      <c:valAx>
        <c:axId val="53131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3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660-2FD8-41A0-AE99-2FAA5CD1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61A-6C5A-4055-8D8D-497C6D4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EAC-7073-49E1-BC25-962A6954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EB1-95FB-410C-81E7-37E762EE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95D-2761-4839-92F1-B068E7A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792-E92A-4D2C-A0AB-5E97374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008-FC80-4426-9074-30B343D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6E3-A82F-4B59-8F84-F74929F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140-D559-4376-BE56-5D65E3C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971-875B-4B9C-B1F6-8A495A3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22F-EB31-4690-929E-842C4581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4C9-AC2C-4138-AB00-CAE2C3F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DB29-E3CC-4B60-AC75-C507F9D86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