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68247"/>
        <c:axId val="41093571"/>
      </c:barChart>
      <c:catAx>
        <c:axId val="87268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93571"/>
        <c:crosses val="autoZero"/>
        <c:auto val="1"/>
        <c:lblAlgn val="ctr"/>
        <c:lblOffset val="100"/>
        <c:noMultiLvlLbl val="0"/>
      </c:catAx>
      <c:valAx>
        <c:axId val="41093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68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F2A-36EC-403D-9F7B-54CFB9EE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E3C-95AD-4C63-BC14-FBB58863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08F-8BD1-4727-85FE-7DBED48B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95E-CE23-4145-AEB1-C56FD7B6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563-9409-4B14-950D-C8828A7A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0FF-3C6A-4D69-A083-C040573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26F-4111-4E89-9565-6E810B10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C88-448A-492A-A64A-A8DEE080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F15-B369-4E64-A4C1-77BA6FA1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9EF-9BF5-47DE-A68A-5D90F71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134-8841-4001-88A4-8ABA3247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8D1-B871-46FC-A3C5-BB3FC80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9635B-936F-4FAC-812C-839E36AF60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