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03280"/>
        <c:axId val="58660660"/>
      </c:barChart>
      <c:catAx>
        <c:axId val="82603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60660"/>
        <c:crosses val="autoZero"/>
        <c:auto val="1"/>
        <c:lblAlgn val="ctr"/>
        <c:lblOffset val="100"/>
        <c:noMultiLvlLbl val="0"/>
      </c:catAx>
      <c:valAx>
        <c:axId val="58660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03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7BD-70CA-4E54-BBE7-1422184F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6CA-FE8F-4F74-A6D0-D2E0E1A1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E99-DFA9-4DBF-92B4-8DED1B66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0AC-4A97-4D81-A0C5-AA9AD743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BA9-DF2D-477D-882E-713B205E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762-FB16-448C-98BC-3AAA2018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FCF-F53D-498D-9D08-AD368EEA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635-1DCF-4B2B-A33E-1BC414DE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256-CD29-435B-AA26-F1E6BE33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88A-06FA-4A5B-9152-18739BF0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BBF-E7D4-400F-B779-09DBF922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1F6-AF62-4CD7-AF2F-7163D0F4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D60B1-E20D-415C-B0BE-E0FC53EAAB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