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89610"/>
        <c:axId val="69076815"/>
      </c:barChart>
      <c:catAx>
        <c:axId val="14289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76815"/>
        <c:crosses val="autoZero"/>
        <c:auto val="1"/>
        <c:lblAlgn val="ctr"/>
        <c:lblOffset val="100"/>
        <c:noMultiLvlLbl val="0"/>
      </c:catAx>
      <c:valAx>
        <c:axId val="69076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89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654-E19C-42F2-9908-418854E7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AED-3E66-4DEE-9E24-664B6FEE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BAF-FA5F-45DE-85BD-8DCA965A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051-BE69-40BB-BD9E-805B119A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9F2-DD0D-45DA-88CE-B063EB1D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DB0-29C2-4C5C-8F5B-D052188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E3A-0C3C-4588-A64F-A48516E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7D5-97FE-4AFD-8BA5-E6D8FE9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E1A-8C22-48BD-9500-205157E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069-3849-48A8-BA11-5CCB5A4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298-F4A8-4A09-A026-6DABFC0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74F-43A5-429D-8B09-21489FD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1DAA-CCD8-4432-B229-EB91009FF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