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39656"/>
        <c:axId val="19640980"/>
      </c:barChart>
      <c:catAx>
        <c:axId val="94939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40980"/>
        <c:crosses val="autoZero"/>
        <c:auto val="1"/>
        <c:lblAlgn val="ctr"/>
        <c:lblOffset val="100"/>
        <c:noMultiLvlLbl val="0"/>
      </c:catAx>
      <c:valAx>
        <c:axId val="196409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39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68F-8A5D-489B-90A9-C45AB590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CE1-D900-4348-8DED-ED761A41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E18-05A5-4FAE-A438-998F98FE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8CD-2A3F-4A9A-BC8A-E0670D80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61C-FFFC-4466-88A2-1219C40D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991-0248-4556-984E-DA097060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C3B-6154-40B2-95CA-0C4D0FD4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41B-111C-4CC6-8541-622EE909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78B2-9CEE-4FF0-AAC9-BB7D7F0D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747-755F-4DDF-9ED3-3D64A825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6A6-3BA8-43AF-87CB-484DF212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FD1-639B-4BC2-956B-2E1948CB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BD206-B1D4-4DF8-8049-1522C3721B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