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40439"/>
        <c:axId val="51521488"/>
      </c:barChart>
      <c:catAx>
        <c:axId val="75540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1488"/>
        <c:crosses val="autoZero"/>
        <c:auto val="1"/>
        <c:lblAlgn val="ctr"/>
        <c:lblOffset val="100"/>
        <c:noMultiLvlLbl val="0"/>
      </c:catAx>
      <c:valAx>
        <c:axId val="51521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40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A6B-92E2-4DD3-9F6C-A53F165C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E00-4261-4893-AA79-5995AE7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798-84D0-4EAE-8F9D-8DD11BD2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C6F-8C0D-4EB8-886D-F2A874D4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C29-458C-4C55-98EB-8889DB43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AC6-FC49-42CA-98AB-FDDF455D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E48-4211-4E04-BC8B-1362FF5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E7A-BF9B-4A1B-A976-3631A16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FB1-73D4-4314-A48A-B2749342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253-22F9-4B3A-9CF8-8CB98AB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B8D-0836-4868-8C2D-315426A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F50-2020-47A6-9621-317EFA0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41C84-9EFA-4355-B7AC-B23148F829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