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90501"/>
        <c:axId val="49416135"/>
      </c:barChart>
      <c:catAx>
        <c:axId val="19590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16135"/>
        <c:crosses val="autoZero"/>
        <c:auto val="1"/>
        <c:lblAlgn val="ctr"/>
        <c:lblOffset val="100"/>
        <c:noMultiLvlLbl val="0"/>
      </c:catAx>
      <c:valAx>
        <c:axId val="49416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90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C7F-06BD-4404-AC7D-D400F2DB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7AB-042C-4305-969F-7ADD48E5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7BB-B3DF-49C5-95D9-B02FC65F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B99-C0F5-4A5C-B013-6EA0BBE7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186-DCD3-44DF-9232-4F4514F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238-AD0D-4FFF-8AE0-EE6F3F9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750-B97E-44E2-AE39-E0A42473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E71-1793-40B2-992C-0847A74A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706-18EA-4712-B977-824E4E0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91E-8A45-4DF7-B961-8C93482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068-913F-4401-9D7C-1C02847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0C2-668D-4397-A695-A77DBE7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F5FDD-A8C1-4E90-9009-47DDAEC91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