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08907"/>
        <c:axId val="854324"/>
      </c:barChart>
      <c:catAx>
        <c:axId val="360089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324"/>
        <c:crosses val="autoZero"/>
        <c:auto val="1"/>
        <c:lblAlgn val="ctr"/>
        <c:lblOffset val="100"/>
        <c:noMultiLvlLbl val="0"/>
      </c:catAx>
      <c:valAx>
        <c:axId val="8543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089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A513-D56A-48B7-95FC-C2F79B0E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F777-A723-4FAA-8B0F-9D282F44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3924-F9BF-4008-B948-FEE89762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6A7E-4B85-4C10-B1E3-03D99D0D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FA88-759C-45C4-8178-EB59B38B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5206-3980-4010-83E4-6FD06551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0526-D53C-404B-B607-AF337504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EF13-01E6-4B40-A9F2-BBA4E5C9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7ED8-188A-4766-A4E8-3248E083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6B13-7B10-49A0-82FA-FA343430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10B9-8A8A-4C6F-91EB-A0FC5F57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CB39-0346-4493-B4F3-F396FA83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3E51A-5AAF-433E-B212-7734183965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