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365655"/>
        <c:axId val="54244245"/>
      </c:barChart>
      <c:catAx>
        <c:axId val="413656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244245"/>
        <c:crosses val="autoZero"/>
        <c:auto val="1"/>
        <c:lblAlgn val="ctr"/>
        <c:lblOffset val="100"/>
        <c:noMultiLvlLbl val="0"/>
      </c:catAx>
      <c:valAx>
        <c:axId val="542442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3656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A15B-2F01-49C4-8EC5-F33C1BCA2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F75F-6C42-4ADC-8F79-3EC9CA49D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30F6-25C2-4B00-86B4-23C633BF2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96D4-1CCE-48AB-9F47-A39364AA9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3C0D-7B1A-4105-B8CD-6370FA783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F7BE-C64E-4B1A-B860-41ABB135B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24B0-9276-45FD-9047-D4362E458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4D02-4474-4AEF-965B-B3EA85E5B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F494-4A9A-4684-80AF-FC45C951A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2D6C-65F4-4BB3-AD61-1FC2980F5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8A94-FD72-4699-993A-8922537BB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E2B9-0BE3-47DF-AD4F-0F5570A3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015C05-3DE1-4B3C-8D2B-97578CBE3F9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