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6894906"/>
        <c:axId val="61858993"/>
      </c:barChart>
      <c:catAx>
        <c:axId val="1689490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1858993"/>
        <c:crosses val="autoZero"/>
        <c:auto val="1"/>
        <c:lblAlgn val="ctr"/>
        <c:lblOffset val="100"/>
        <c:noMultiLvlLbl val="0"/>
      </c:catAx>
      <c:valAx>
        <c:axId val="6185899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689490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A05B4-B0F6-4D7F-B595-298D15183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E9B49-92D7-4FC0-AB15-09552C29A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A2AF1-D14D-4282-8398-BD6B25759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8671B-A37B-40C1-AF16-7332E0721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63496-5DA8-4C58-8900-9BA5C930F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97DB4-0951-49C3-852A-2A74E4E0C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60C76-3A18-49BF-84A5-EDDD7CDAD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3AB7F-7E34-4673-99C4-B2DB9B409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CAB41-7CC2-4B4D-B020-6D6F50AD0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7FE86-3C9D-4F7A-9928-27D57CD51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D2D62-C246-40A5-80D1-01EBC3BC1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ED6C4-C3AE-47EA-9E5D-A9FE2B09B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780BF6-B899-4364-BAD6-FCB71D75906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