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0CF07-CADD-419B-8843-C33558647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0D4BE-759F-4A09-9C07-0852E3306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B2C88-263F-44EE-8F62-E2A8F65F7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0A83F-889E-477C-9981-2B6A111D5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28977-D2B2-4DEA-8EF8-B8AEF27BF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138FB-AF95-473F-92B6-2B0F60746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E807D-9D3F-4AF0-BCC2-A110796BE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8F689-2ECA-49F3-BD58-9E47F77AE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DB220-8C4F-4744-A1DA-41688A1A1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DDDEF-EC94-45C9-963B-9ED2A37F6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E6FA8-8C11-4118-951F-7BB308972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4033E-97F9-4BC0-9BCF-0FA900228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F2D82-FA23-4C6D-A69C-E82A63B57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B5003-E9D1-4F57-8350-228B6D59C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F0474-C65F-4B4B-934C-6F1E5E6A7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3D248-7DBB-4200-BBC1-9639DE10E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4D305-CD34-47B1-9D4C-CA726D70A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A7B08-1887-46F4-8962-CE040B516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A9395-C0ED-4268-9439-7069BF693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ED71D-2DF1-4ED6-82DB-D2E44F5AB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68343-C381-4EB6-AA26-848CA87F3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98341-92B4-4FFE-A60C-BCFE26B23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771AF-42A6-4ABE-ADF8-1D210C8BB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3F4F3-E7D0-42E5-A93D-C42661675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7CFE7-B59B-4259-8481-300DFB9483F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98193-B48E-41EA-9A55-66A0BA63530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B316C-3A42-449C-BEDE-C7DDF9A5BAC6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14E06-207D-4B91-8458-232A99A49DBA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D8F91-0691-4A68-B85F-4CD5EB063378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DE3FD-2DB8-40BE-8959-15A8248074C1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76AA2-1017-4749-A3B3-DA6B1E7CD181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6CFC6-18A3-4D9F-8EE2-3EFCA143319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D26F7-D114-4CE7-ABDD-3F6E00D1751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8FAD6-9921-49EE-865F-621C6E5488D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9E00C-F278-4322-BC5F-A2770E6B64A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D6E9B-1433-4A34-B397-2958E446C13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BA6A4-C395-4AF2-BE1F-4D1DEA7D1920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C34B4-72C1-4DD3-AC1A-80553D728BAB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5:52:21Z</dcterms:modified>
  <cp:revision>2</cp:revision>
  <dc:subject/>
  <dc:title>The R genetics package: tools for using genetic data in statistical  models</dc:title>
</cp:coreProperties>
</file>