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A6F6D-949C-441E-B11E-5DA017BF92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7E0B9-9080-4388-8A2C-03823A859C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53CD5-5392-42D4-8682-826926A9C5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EA547-DCB6-479A-9726-1CECB777D8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E09410-5936-45DA-80F0-1861C16F1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A0AF62-7FD4-4FC8-8288-C1B14966C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F25F16-2E47-4053-ACF0-89FC2CA85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811B67-B7AF-4A85-9273-180B41A91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8BD5F9-C35E-4B45-9DB7-2DFD8FAB2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67E485-24CF-49A5-9D3F-A4ADD1E0C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C4886D-D27E-4FEB-A920-BB4CD620F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30756-E4BB-4D61-AB68-837AD4F72A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CCD909-568B-4B81-868D-CA34523E6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91B2A2-64A4-4665-AD1A-1B313874A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E8B7B5-D10A-4036-8F3F-5E7F8B7DF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E6192B-3C5F-481A-8464-8166133F5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272BEB-1393-404C-B6FD-5BE6E0C71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CFCB4-0CAB-43C8-ABF9-AFEB64C397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D03EA-C9DB-489B-ADF6-2319FFD11F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EBBD4-A651-4405-A128-EC10909540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FD205-14B7-4014-8CC3-982160F985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8E75E-FEF8-4D1A-8506-862710D1AF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23662-8A62-4B5F-A22A-16C6A0CF12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4A9ED-B407-47E2-864A-31B2B5835A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00BCB-9516-4076-94E8-77FDADDF0008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F36B0-4CA7-4FC8-BCF9-C173A4C3CFB9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emo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s examples with data discus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ignette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Provides more details on the spline fitting and algorith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Includes relevant sections from DierckxSpline (199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4B68D-055F-4C09-B9AA-48B594D6A9E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02304-EAB3-4952-B4A9-FB441DA622C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80309-F188-41D9-B4B5-27D92F49297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76B3C-16B3-4E43-85AC-53163E666C5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061B3-6847-4D7B-8A59-CE69CFF1D4D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CA513-71D4-4D92-B436-3B31C076943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9BDB4-72D7-4F4A-AF60-9EA036C98E7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for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18723-286C-45E1-BB56-3980ADF52CF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07126-387C-4958-9A16-5C0E77184A6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5CF1B-ECB8-4156-A0F7-6D6D0146C67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3A1EC-162B-4B0C-B041-CFACA7A72E9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A8B2E-6B54-4C10-B089-2E87ECA4082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EE308-9825-4A06-9C27-5DB2EE1A414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D3BE6-4CF6-478D-A078-7ED7688340F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05T23:33:15Z</dcterms:modified>
  <cp:revision>164</cp:revision>
  <dc:subject/>
  <dc:title>minSpline: An R Package For Minimal Knot Splines</dc:title>
</cp:coreProperties>
</file>